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233-C4F7-4572-88ED-995988ED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9E4-227F-4BAC-BAB0-68B522AD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E40-DC2F-4294-8E4B-1BBFCD74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CA0-BE53-4B26-B0BE-5BEDCBF3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BD7-6C02-4386-ABDD-F50DEC7F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459-BF3F-41F5-8604-4B10BD0C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3EC-5430-404F-99EA-6A573BD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91C-23F9-4B23-8C7F-3DEC47A0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640-0867-40CE-A50D-80C5116C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6E6-303F-4690-A1AA-24EDB476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1F7-F1FE-455B-84CF-0A23AE0E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98E-FC3E-44E4-9B50-E6BE3F99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EAE2-3FF6-4352-BD10-BF941BE29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28960" y="3105000"/>
            <a:ext cx="508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siunea Iunie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d52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7b2</cp:lastModifiedBy>
  <dcterms:modified xsi:type="dcterms:W3CDTF">2012-06-18T10:55:53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